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618C-0672-4D0B-96B1-FE4D4673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11E59-77B3-449D-9F59-2D8246C1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E7DF7-D872-40C4-B960-279E5CBB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058A-ADF0-491F-B2E9-656B5B1E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F0AC-D579-4104-B972-D3C22F4A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B8AA-8388-490A-B30C-E038C0D9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170A-9947-4E8B-8230-6F42099A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21A2-0725-4BC8-A431-C70B186C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75B6-193A-4A66-AC04-87786332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59D3-7387-49CA-9FF3-3BD86698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08B4-BD00-4E53-AC88-391AD917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3F94-29C9-40D8-B032-1C9EB663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60B5-773A-4129-8F81-6E1DF868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2641-6A99-4920-BE1B-323B3012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EA44-EC71-4256-82D4-A33C9360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2B79-4695-447C-A792-E11DDF8D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5F49-7B91-4DDE-B066-9A6D7F93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7B455-318E-4927-8CDB-D83BD85E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D5658-FFB1-4ABA-80A4-B237BC9F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5757-44C2-4FA9-BA02-9935401F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38B94-8674-4401-9742-3AB70535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A660F-0C0C-4B3B-B985-CB71F94B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0D7F-70C3-44A6-84AF-CD9AA4F4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629CB-13EC-4B1E-90F1-3CAA9B35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6CEF-9301-484D-A589-80CEE65BA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F8FA-8E0B-4F56-B31D-763CB333D0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mple Shift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8000" y="177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000" y="1326960"/>
            <a:ext cx="7261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encipher/decipher using a simple shif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70200" y="2114640"/>
            <a:ext cx="5121360" cy="4476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7680" y="231624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29163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imple Shi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under the Ciphers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7960" y="3959280"/>
            <a:ext cx="3124440" cy="842760"/>
            <a:chOff x="237960" y="3959280"/>
            <a:chExt cx="3124440" cy="8427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237960" y="3959280"/>
              <a:ext cx="3124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981160" y="4416480"/>
              <a:ext cx="238320" cy="10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95640" y="49640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hif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" y="549756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n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440" y="4029120"/>
            <a:ext cx="542880" cy="295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30400" y="276372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57040" y="4506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mnxnxfxfruq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B871-BA84-4DFE-AB59-53D3D788C7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4T22:44:56Z</dcterms:modified>
  <cp:revision>68</cp:revision>
  <dc:subject/>
  <dc:title>CAP Cryptographic Analysis Program</dc:title>
</cp:coreProperties>
</file>